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2913-F558-4CF3-823B-5FB7DB8A2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195F-3187-4C56-85F2-6481100FB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BBE-2CF4-4ABF-BBEF-2DD544B5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72A-7B2A-4F24-9262-C3357ADC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837-9A65-4C80-B661-04673A1E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8FE-D64C-496D-BAF0-EFA280C4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AA81-7DC9-4BB7-A2B3-49EE613B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B9A3-8F3E-4EF0-99DE-05DFA2E7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6221-719F-4D65-8F5E-02B7C7A0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66B6-0D48-4F50-8F6C-E8A5178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5BAB-90A4-4907-8A0D-4FF3F724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02CB-CB54-488B-9664-95423E7D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DE1E-2192-4384-9F52-A5F6F3D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8B9-CF01-46A9-8BC2-BC500894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EC0C-37A5-49EA-9B07-B0ADF120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236-9250-4F30-B5AD-B976EB2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2827-696C-4A64-AF22-204606D2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7212-2894-4864-A100-8FCF50C6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0339-7BB5-4D46-95F5-7EFE7512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60E-DEED-42DA-89FE-538DB82E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16B-D6E7-4067-8D6A-3D82C680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072-31E0-4B06-A1BF-741795CE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B21-7299-40D6-89B4-685F6935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69D-91ED-4471-A909-B2E2E7BB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97A-64E4-4490-8E43-21972960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0CC-8CBB-4990-9789-39A27C0B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3E78-E0CD-49EA-BEB7-D558C36D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C3AE-F7A2-4365-91E1-61E007969C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Cheryl.potts@pisd.ed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ublic Forum Debat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FD: What is it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or debat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4-3-4-4-3-2-2-3-1-1          2 for pre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rpose of each part of the deb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e wri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se Writing Templa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Name of Team ______________________   Public Forum Case for __________(Month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General open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Link to the topic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o the affirmative/negative supports the position that cell phone usage should/should not be legal while operating a motor vehicle. Our reasons include the following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1: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2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pporting reason #2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3(optional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reason #3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onclusion(summary of team position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guments: Cogent or Fallacio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s of falla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s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eudo-argu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Ballot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my chanc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can I do to w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should I avoi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stablishing Groun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the top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ision of g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aker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st Sh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in To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bating Health Car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 S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ealth care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act Inform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ryl Potts, Karen Wilbank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 Weinbrenner,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o Senior 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Cheryl.potts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69.752.943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.weinbrenner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7:58:45Z</dcterms:created>
  <dc:creator>Plano ISD</dc:creator>
  <dc:description/>
  <dc:language>en-US</dc:language>
  <cp:lastModifiedBy>Steffany Batik</cp:lastModifiedBy>
  <dcterms:modified xsi:type="dcterms:W3CDTF">2009-10-11T19:53:50Z</dcterms:modified>
  <cp:revision>9</cp:revision>
  <dc:subject/>
  <dc:title>Public Forum Debate</dc:title>
</cp:coreProperties>
</file>